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91D-9E6C-4916-B7F2-035FEBB2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EED-0E4B-4D77-AE4A-F9928E0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75C-0ECD-4572-966F-CEBD342A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16B-7ACF-45F8-8B05-38386C78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3D1B-9FFA-485D-A382-72CE6CA7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6F66-6B26-4D6C-8AA7-1201E4B7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E8F9-CED8-403E-A685-06B0A8F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852-7FA2-4869-BAA5-C88BC0C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48E-CBF5-4A41-8C35-08D6C92B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A5E5-5FF6-493C-8C39-5A94C60C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7B54-5634-4EFD-B482-A0D30E1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505-FABC-4C93-84A8-FA1BE154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080D-5194-4FC1-82EC-77D12D4F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548-4553-40DB-87FC-AA838318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1FA3-BFA3-4454-8F23-633997E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E89-6333-400E-9A20-CFA6F5D1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C779-E4A3-4518-85F4-8F9D0E93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DA47-75A8-4117-AA49-3F42EC13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660-C0D6-4B45-9045-D19131A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3F2-8EA7-4554-90B6-F6895F67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8E3-015B-4079-BBCD-80E5B42D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556-25A2-420B-9A84-C7D60A3C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5AE-BE4C-492D-A9D7-F008646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22F-9FB7-4BF2-8A8A-7701CF8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EDFF-E250-4A4B-9122-4609ECFBDC5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2560"/>
              <a:chOff x="0" y="3200400"/>
              <a:chExt cx="9144000" cy="41256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3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3720"/>
                <a:ext cx="9144000" cy="10296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6680"/>
                <a:ext cx="9144000" cy="103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0000"/>
                <a:ext cx="9144000" cy="10296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19D3-33C2-414B-9DD6-24636694A6D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 Wo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1828800" y="2438280"/>
            <a:ext cx="5334120" cy="369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udy practi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puertas hay en la sala de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3880" y="4876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cuatro puert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pupitres hay en la sala de clase de españ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veintisiete pupit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haces aho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676520" y="4267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oy preparando la cena. ¿Quieres ayudarm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l Día de Acción de Graci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00200" y="44956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veintiocho de nov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son los países de Europ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España, Portugal, Italia.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capital de Costa Ric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676520" y="50292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San Jos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este libro de Cub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49528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1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el profesión de tu papá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a en una ofic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cumples añ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600200" y="4800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cumpleaños es el próximo lu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tiempo hace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lueve y hace vie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04920" y="2666880"/>
            <a:ext cx="8381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cuesta la chaque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cincuenta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Comment 5"/>
          <p:cNvSpPr/>
          <p:nvPr/>
        </p:nvSpPr>
        <p:spPr>
          <a:xfrm>
            <a:off x="83808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3880" y="4724280"/>
            <a:ext cx="61722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1</a:t>
            </a:r>
            <a:r>
              <a:rPr b="0" lang="en-US" sz="4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de octu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el disco compacto de Sant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esta a eso de los 15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Comment 4"/>
          <p:cNvSpPr/>
          <p:nvPr/>
        </p:nvSpPr>
        <p:spPr>
          <a:xfrm>
            <a:off x="1143000" y="2592360"/>
            <a:ext cx="2666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  vas a comprar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600200" y="4724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comprarlo después de la escuela h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tiempo hace en invierno en Minneso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76520" y="48006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ce mucho frío y n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762120" y="27432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la fecha del día de independencía en Méxi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600200" y="5105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17 de septiem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descubrió el nuevo mundo Colu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57200" y="46483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n el año mil cuatrocientos noventa y d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  días hay en el mes de febre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4724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28 días en febrero y a veces 2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minutos hay una ho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472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sesenta minutos en una h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2120" y="21337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haces cuando hace mal tiemp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447920" y="40384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ando hace mal tiempo, veo la tele o leo un lib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Comment 4"/>
          <p:cNvSpPr/>
          <p:nvPr/>
        </p:nvSpPr>
        <p:spPr>
          <a:xfrm>
            <a:off x="1219320" y="198108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762120" y="274320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 costó tu coch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tó 15 mil dóla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teléfo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7-41-12-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es tu nomb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nombre es Sa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es el número de teléfono d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1676520" y="48006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5-55-52-6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" y="2743200"/>
            <a:ext cx="8534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ú eres de aquí, ¿______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2120" y="43434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Soy d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4"/>
          <p:cNvSpPr/>
          <p:nvPr/>
        </p:nvSpPr>
        <p:spPr>
          <a:xfrm>
            <a:off x="4724280" y="2592360"/>
            <a:ext cx="1600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está correo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rreos está al lado de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está el banc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676520" y="4572000"/>
            <a:ext cx="60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banco está enfrente del c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son tus amig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Sara, Julia, y Ev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 se llama la profesora de teatr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676520" y="487692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 llama Violeta Astor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4"/>
          <p:cNvSpPr/>
          <p:nvPr/>
        </p:nvSpPr>
        <p:spPr>
          <a:xfrm>
            <a:off x="1143000" y="2592360"/>
            <a:ext cx="20574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De ________ son los estudiantes de art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676520" y="45720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de Columbia, de Cartage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4"/>
          <p:cNvSpPr/>
          <p:nvPr/>
        </p:nvSpPr>
        <p:spPr>
          <a:xfrm>
            <a:off x="198108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5800" y="2133720"/>
            <a:ext cx="73915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estudiantes hay en la escuela de arte Simon Boliv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38080" y="49528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y a eso de doscientos estudiantes all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mment 4"/>
          <p:cNvSpPr/>
          <p:nvPr/>
        </p:nvSpPr>
        <p:spPr>
          <a:xfrm>
            <a:off x="1143000" y="198108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años tien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676520" y="464832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ene veintidos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4"/>
          <p:cNvSpPr/>
          <p:nvPr/>
        </p:nvSpPr>
        <p:spPr>
          <a:xfrm>
            <a:off x="114300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vas a hacer este fin de sem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676520" y="4800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l restaurante méxicano con mi famil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685800" y="42670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ómico y simpático.  Tiene talen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Robert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80880" y="411480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buen músico. Toca el saxofón y la clarinete muy bi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4"/>
          <p:cNvSpPr/>
          <p:nvPr/>
        </p:nvSpPr>
        <p:spPr>
          <a:xfrm>
            <a:off x="1143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 Ev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90720" y="42670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antipática y dogmát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4"/>
          <p:cNvSpPr/>
          <p:nvPr/>
        </p:nvSpPr>
        <p:spPr>
          <a:xfrm>
            <a:off x="1143000" y="2592360"/>
            <a:ext cx="22096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óm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novio de Ev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295280" y="4495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Rober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4"/>
          <p:cNvSpPr/>
          <p:nvPr/>
        </p:nvSpPr>
        <p:spPr>
          <a:xfrm>
            <a:off x="12193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está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990720" y="4267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á en el restaurante méxicano donde trabaj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4"/>
          <p:cNvSpPr/>
          <p:nvPr/>
        </p:nvSpPr>
        <p:spPr>
          <a:xfrm>
            <a:off x="1143000" y="2592360"/>
            <a:ext cx="2133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762120" y="2743200"/>
            <a:ext cx="8076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blo es de México, ¿______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600200" y="3886200"/>
            <a:ext cx="5334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orrecto.  Es del D.F. pero vive ahora en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4"/>
          <p:cNvSpPr/>
          <p:nvPr/>
        </p:nvSpPr>
        <p:spPr>
          <a:xfrm>
            <a:off x="6248520" y="2592360"/>
            <a:ext cx="1447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vi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295280" y="426708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 en Cartegena.  Estudia con una b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4"/>
          <p:cNvSpPr/>
          <p:nvPr/>
        </p:nvSpPr>
        <p:spPr>
          <a:xfrm>
            <a:off x="1143000" y="259236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762120" y="274320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tudia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600200" y="39625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tudia en la escuela de arte Simon Boliv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4"/>
          <p:cNvSpPr/>
          <p:nvPr/>
        </p:nvSpPr>
        <p:spPr>
          <a:xfrm>
            <a:off x="121932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 Pablo en el restaurante méxic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066680" y="4572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rque tiene que ganar din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4"/>
          <p:cNvSpPr/>
          <p:nvPr/>
        </p:nvSpPr>
        <p:spPr>
          <a:xfrm>
            <a:off x="1143000" y="2592360"/>
            <a:ext cx="2514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van Sara y Juli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62120" y="4724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n al restaurante méxicano donde trabaja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día es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676520" y="4267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y es lun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5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es Ele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3880" y="41911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ena es la hermana menor de Sa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 son Julia y Sar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76520" y="47242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n las nuevas amigas de Pabl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4"/>
          <p:cNvSpPr/>
          <p:nvPr/>
        </p:nvSpPr>
        <p:spPr>
          <a:xfrm>
            <a:off x="129528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el señor Torr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219320" y="4495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director de la escuela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4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ié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143000" y="41911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 en Cartegena, Columb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 viven la madre y la hermana de Pabl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143000" y="472428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ven en México, D.F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4"/>
          <p:cNvSpPr/>
          <p:nvPr/>
        </p:nvSpPr>
        <p:spPr>
          <a:xfrm>
            <a:off x="1143000" y="2592360"/>
            <a:ext cx="22860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va Pablo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080" y="47242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a a su trabajo en el restaurante méxican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 vas a las once y cuarto de la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600200" y="457200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y a mi clase de matématic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 hora es tu clase de matemátic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tengo a las once y cuarto de la mañ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llegas tarde a cla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143000" y="41911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 siento.  El autobús fue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2120" y="2286000"/>
            <a:ext cx="7010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cuesta una neuva computadora aquí, señ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990720" y="48006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rmalmente a eso de mil dólares, señor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4"/>
          <p:cNvSpPr/>
          <p:nvPr/>
        </p:nvSpPr>
        <p:spPr>
          <a:xfrm>
            <a:off x="1219320" y="213372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años tien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ngo dieciseis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4"/>
          <p:cNvSpPr/>
          <p:nvPr/>
        </p:nvSpPr>
        <p:spPr>
          <a:xfrm>
            <a:off x="1143000" y="2592360"/>
            <a:ext cx="27432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762120" y="27432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tu clase de españ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 tengo a las ocho de la mañ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38080" y="22096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no vamos al cine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685800" y="41911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¿por qué n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4"/>
          <p:cNvSpPr/>
          <p:nvPr/>
        </p:nvSpPr>
        <p:spPr>
          <a:xfrm>
            <a:off x="1447920" y="205740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685800" y="22096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u cumpleaños es mañana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600200" y="44956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í, voy a cumplir diecisiete añ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Comment 4"/>
          <p:cNvSpPr/>
          <p:nvPr/>
        </p:nvSpPr>
        <p:spPr>
          <a:xfrm>
            <a:off x="1371600" y="3124080"/>
            <a:ext cx="23623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er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es la películ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600200" y="46483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mpieza a las tres y cuarto de la tar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762120" y="27432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600200" y="46483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o en Bob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Comment 4"/>
          <p:cNvSpPr/>
          <p:nvPr/>
        </p:nvSpPr>
        <p:spPr>
          <a:xfrm>
            <a:off x="1143000" y="2592360"/>
            <a:ext cx="25909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ón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38080" y="22096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 trabaj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447920" y="3657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bajo todos los días después de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omment 5"/>
          <p:cNvSpPr/>
          <p:nvPr/>
        </p:nvSpPr>
        <p:spPr>
          <a:xfrm>
            <a:off x="1219320" y="2057400"/>
            <a:ext cx="25905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38080" y="22096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A ______ hora empieza tu trabajo ho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447920" y="43434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i trabajo empieza a las cuatro de la tarde h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Comment 4"/>
          <p:cNvSpPr/>
          <p:nvPr/>
        </p:nvSpPr>
        <p:spPr>
          <a:xfrm>
            <a:off x="1981080" y="1981080"/>
            <a:ext cx="13716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335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el examen en la clase de españo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990720" y="4800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examen es el jueves de este sema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Comment 4"/>
          <p:cNvSpPr/>
          <p:nvPr/>
        </p:nvSpPr>
        <p:spPr>
          <a:xfrm>
            <a:off x="106668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n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533520" y="27432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_____ es necesario estudia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990720" y="4800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l examen va a ser dificí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omment 4"/>
          <p:cNvSpPr/>
          <p:nvPr/>
        </p:nvSpPr>
        <p:spPr>
          <a:xfrm>
            <a:off x="1066680" y="259236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r 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3505320" y="3733920"/>
            <a:ext cx="26812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profe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y reportero para el periódico de aquí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62120" y="2743200"/>
            <a:ext cx="7010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es tu dirección en Interne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46483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cabezadevaca@yahoo.c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á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762120" y="274320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¿______  día es mañan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676520" y="42670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s el miércoles dos de octub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Comment 4"/>
          <p:cNvSpPr/>
          <p:nvPr/>
        </p:nvSpPr>
        <p:spPr>
          <a:xfrm>
            <a:off x="1143000" y="2592360"/>
            <a:ext cx="1828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0:03:36Z</dcterms:created>
  <dc:creator>Paul Widergren</dc:creator>
  <dc:description/>
  <dc:language>en-US</dc:language>
  <cp:lastModifiedBy>Jeff</cp:lastModifiedBy>
  <dcterms:modified xsi:type="dcterms:W3CDTF">2010-10-21T19:51:27Z</dcterms:modified>
  <cp:revision>4</cp:revision>
  <dc:subject/>
  <dc:title>No Slide Title</dc:title>
</cp:coreProperties>
</file>